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C1E-A9BB-41DB-8A8A-5588E7B3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3C9-437D-4DC8-A2FA-F808A390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99C-85C3-4021-B971-C1AFDDE8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D2E-87D4-454E-8915-C82B612E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1E83-9E34-404E-98A1-6CA74E75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465D-B8F8-4266-B36B-1504B329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F4EC-BF33-468E-92A6-2AEA8532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10FC-91C9-4DD1-817E-880165AC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39C2-BE0B-4072-B2E9-83A97F9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000C-CDF6-493A-9719-1D871773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7685-09A1-4BED-9AAA-B19C4721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510-336B-475E-BBBB-D5EF8CA6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0D5C-6463-43F8-8E58-F5B84D29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F28C-CFEB-4AD9-8A1F-E3347DE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5E50-8B93-4983-9385-7164B462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0C7D-1F92-4E2C-9C0C-157946DE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542E-EDC7-40D8-A510-FA8D3ADB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84B-29A0-4846-9AE7-4FFBB216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7B1-A47B-4ED4-85A0-A989B3E6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BDE-BB9E-44FE-BD5D-708B22D7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94C-A172-4F62-9E0B-2378F75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6C71-CA4E-4685-8AA7-466D0A3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AC7-FE2F-4AED-A5CA-4F670D6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D98-2FA2-4FF3-A1C6-98ABCAD6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58b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01FC-2A6F-4607-B2E5-38EBD3C2C477}" type="datetime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CAB2-D07B-47D6-9A10-F3C566CCBB13}" type="slidenum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2D7F-CFA4-49C3-A1BB-C27197B930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4DDE-AF47-4713-8C97-51CF79866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58b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8b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58b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58b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58b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16292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86400"/>
            <a:ext cx="6782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urso de Liderazgo –Ni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6400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person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ntrenamiento para la vid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espiritu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Necesidad de amistad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946760"/>
            <a:ext cx="289548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Ayuda en los procesos curativos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Mejor situación económic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vangelismo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Seguridad financier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83440" y="3200400"/>
            <a:ext cx="20224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valuando  Su Comunidad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Reúnase con su comis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mience con orac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loque el amor en primer lugar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nozca a los miembros de su iglesia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Familiarícese con sus vecinos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Valore las ideas de cada mujer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imite las necesidade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Sea sensibl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Reuniones participativa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Grupos de enfoqu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6536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Encuestas – Planificación e Implementación</a:t>
            </a:r>
            <a:endParaRPr b="0" lang="en-US" sz="37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100" spc="-1" strike="noStrike">
                <a:solidFill>
                  <a:srgbClr val="ffff00"/>
                </a:solidFill>
                <a:latin typeface="Arial"/>
              </a:rPr>
              <a:t>Una buena encuesta le dirá:</a:t>
            </a: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marL="32220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de los ministerios que están activos actualmente en la iglesia son de interés para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necesidad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iénes son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as formas que las mujeres están dispuestas a servir a otr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interes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Las encuestas deben incluir: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lugar para escribir el nombre, dirección, teléfono y el grupo de edad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ellas desean asistir a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lista de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indicar  en que ministerio están participando actualmente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60912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unirse a los ministerios actu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en blanco para que enumeren sus habilidades e intereses especi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ayudar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que enumeren sus necesidad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go para cada grupo de mujer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7:50:03Z</dcterms:created>
  <dc:creator>Dan &amp; Lynnetta Hamstra</dc:creator>
  <dc:description/>
  <dc:language>en-US</dc:language>
  <cp:lastModifiedBy>Sede Administrativa</cp:lastModifiedBy>
  <dcterms:modified xsi:type="dcterms:W3CDTF">2003-05-13T13:56:07Z</dcterms:modified>
  <cp:revision>29</cp:revision>
  <dc:subject/>
  <dc:title>Women’s Needs Assessment in the Local Church</dc:title>
</cp:coreProperties>
</file>